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180-EEEC-4618-A344-05F37272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0D40-8654-4079-B068-34D268E8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41E-5350-4D69-B724-2536658A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B8A-9D30-422B-A986-8ABA204C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F27-73E5-49EB-BC65-0A5CC7B6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004-E42E-4F26-98F3-20C47F2C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660-D759-4D46-BF83-EB0E28B1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762-16AB-4A80-A2FC-59C91C6C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DF9B-025A-4E7A-9B68-B419EB13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986-40D3-488F-B90C-D1FD806E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456-2C71-4550-AB54-AF09381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113-CB24-4ACC-BF6B-7A8B5DC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C5BE-CBA7-4E9C-AA38-3A6548B40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o 6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s may change if more work comes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uch here…decent webpage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T more detail needed here -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really see on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sed to do it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38:16Z</dcterms:created>
  <dc:creator>nbdoe</dc:creator>
  <dc:description/>
  <dc:language>en-US</dc:language>
  <cp:lastModifiedBy>nbdoe</cp:lastModifiedBy>
  <dcterms:modified xsi:type="dcterms:W3CDTF">2007-05-09T17:38:48Z</dcterms:modified>
  <cp:revision>3</cp:revision>
  <dc:subject/>
  <dc:title>Election 2007</dc:title>
</cp:coreProperties>
</file>